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2288-4EE1-457A-95B4-F3FC6DE5F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4203-5DE9-462F-ADA6-268C9DF94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8008-0C46-4389-B2E1-92785FC8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A752-6BC9-47CB-9041-87C0D8EA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9239-B6F3-4034-92AF-919F8698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D504-5F2F-4FE5-B9C2-0FC28C1F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7082-4E4F-416B-AAA7-8948778E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6F6E-2DBD-4436-8B6A-A341CDC0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41E9-E2BA-4760-B4CD-87B0EF5F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3C15-0754-4C6C-A98D-E8F5185E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8DCA-5DBE-4330-8F1F-F49B3F5F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2BDC-9922-46B9-9164-3BDDC812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0B82-833E-4CB0-9BA4-5E145F68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1FD7-572E-4860-A2DE-0581F6A0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3039-79D8-4D09-A8C4-A27E90B4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60E8-1C6E-485A-9166-92301D0A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283B-EFB9-4CBA-958A-3C56B89B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521C-6413-463F-AC71-BCA48500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E801-BD3E-4CE6-9CB2-77447C40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DF0-161A-49D3-AB10-2A137EB2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A157-0E3C-4906-92A7-BA0F50D5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65BC-45F7-4B7C-A8E3-30FA9BDF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4951-4D82-47E7-A278-F4233C23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2B52-76C1-41FE-9B8A-FE106650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7DC6-F769-4B62-82FE-01CD6FD1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C5EE-8249-405C-A29D-DF6DCC80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36E8-D350-4A07-96C5-DB2B11FB1A2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4346-8BC9-4677-AD32-83594BFCBB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8" descr="LOGO"/>
          <p:cNvPicPr/>
          <p:nvPr/>
        </p:nvPicPr>
        <p:blipFill>
          <a:blip r:embed="rId3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8" descr="LOGO"/>
          <p:cNvPicPr/>
          <p:nvPr/>
        </p:nvPicPr>
        <p:blipFill>
          <a:blip r:embed="rId3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E4DC-B1B8-478D-AF8A-FA4C9A35165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8993-DA24-4FBC-A7EE-353BF33D48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B867-EE9B-4E8C-B8BB-7492990A80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B656-FE4E-42A1-98D9-C8E2775301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3068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Клиничка фармација 1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Предавање бр.7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ОСНОВНИ ПРИНЦИПИ ФАРМАКОКИНЕТИКЕ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340000" y="119700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нтегрисане студије фармациј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12DE-C345-4C9A-9D62-C874DBC0D9A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0F75-B986-4BC0-B051-EFF8F37437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Ефекти које постиже лек у организму су у вези са његовом концентрацијом на месту деловања, па би било корисно да се прати концентрација лека на том месту у организму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То није могуће – нпр.  рецептори на које делује дигоксин су смештени у миокарду где није могуће узети узорак ради одређивања концентрације лека у ткив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6B5D-2AD2-4E0D-B740-7BE9D8C2B8D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864D-A300-4377-BBD8-FB1D1C58CB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Концентрација лека у организму се одређује најчешће у крви или другим телесним течностима  (плазма, урин, пљувачка ..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Узорак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узет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ради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мер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ња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конце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трације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к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4800600" y="1828800"/>
            <a:ext cx="1447920" cy="1828800"/>
          </a:xfrm>
          <a:prstGeom prst="rect">
            <a:avLst/>
          </a:prstGeom>
          <a:solidFill>
            <a:srgbClr val="fca9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Лек</a:t>
            </a:r>
            <a:r>
              <a:rPr b="1" lang="sr-Latn-CS" sz="2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у</a:t>
            </a:r>
            <a:r>
              <a:rPr b="1" lang="sr-Latn-CS" sz="2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крв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248520" y="1828800"/>
            <a:ext cx="1523880" cy="18288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ек</a:t>
            </a: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ткиву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Line 7"/>
          <p:cNvSpPr/>
          <p:nvPr/>
        </p:nvSpPr>
        <p:spPr>
          <a:xfrm flipV="1">
            <a:off x="5334120" y="3504960"/>
            <a:ext cx="0" cy="6858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5715000" y="2133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9"/>
          <p:cNvSpPr/>
          <p:nvPr/>
        </p:nvSpPr>
        <p:spPr>
          <a:xfrm flipH="1">
            <a:off x="5714640" y="3276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CC8E-5E2A-4D1C-9EFD-10648B98100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3F26-D07C-4665-92EE-3906069711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32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Постоји пропорционалн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веза између концентрације лек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 плазми и у ткив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где се лек везује за рецептор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69960" y="1752480"/>
            <a:ext cx="4297320" cy="426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5257800" y="502920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5105520" y="518148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7"/>
          <p:cNvSpPr/>
          <p:nvPr/>
        </p:nvSpPr>
        <p:spPr>
          <a:xfrm flipV="1">
            <a:off x="5105520" y="20574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4876920" y="5410080"/>
            <a:ext cx="3352680" cy="457200"/>
          </a:xfrm>
          <a:prstGeom prst="rect">
            <a:avLst/>
          </a:prstGeom>
          <a:solidFill>
            <a:srgbClr val="a3b2c1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нцентрација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ека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ки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9"/>
          <p:cNvSpPr/>
          <p:nvPr/>
        </p:nvSpPr>
        <p:spPr>
          <a:xfrm rot="16200000">
            <a:off x="2979000" y="3208680"/>
            <a:ext cx="3336840" cy="6080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нцентрација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ека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лаз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10"/>
          <p:cNvSpPr/>
          <p:nvPr/>
        </p:nvSpPr>
        <p:spPr>
          <a:xfrm flipV="1">
            <a:off x="5105520" y="2285640"/>
            <a:ext cx="32004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11"/>
          <p:cNvSpPr/>
          <p:nvPr/>
        </p:nvSpPr>
        <p:spPr>
          <a:xfrm flipV="1">
            <a:off x="5105520" y="2209320"/>
            <a:ext cx="3200400" cy="2971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7740-3BA8-44A2-BA58-10BF9F6D4EE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B4E5-7734-40E5-B658-A68803A451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Такође  снижење концентрације лека у  плазми доводи до снижења концентрације лека и у ткивим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ABE9-3531-4AB9-8FFD-5923D426886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855B-128B-4FDD-8974-0B502D11FA0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Захваљујући физичким и хемијским својствима лекови се у организму везују за различите рецепторе односно  ткива где остварују ефекат нпр.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дигоксин – миокард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бензодиазепини – масно ткиво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  већини случајева   концентрација лека на месту деловања одређује интензитет дејства лек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438C-FFE3-4C4B-8987-9F7AA536D2C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8C20-1D4D-4412-8712-5A980DD08C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Такође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и други фактори утичу на одговор организма на лек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Густина рецептора на површини ћелиј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Механизам којим се сигнал преноси у ћелију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Фактори који контролишу  пренос генских информација и регулишу  продукцију протеина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1FBC-FDEE-48B0-A3FC-3C402682BF2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124F-2ED0-495F-9A32-A108B822ADB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915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Веза између концентрације лека на циљном месту и фармаколошког ефек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4360" y="2997360"/>
            <a:ext cx="788328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едан од начина за поређење јачине дејства лека је одређивање </a:t>
            </a: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концентрације лека са којом се постиже 50% максималног ефекта лека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, односно </a:t>
            </a:r>
            <a:r>
              <a:rPr b="1" lang="sr-CS" sz="2800" spc="-1" strike="noStrike">
                <a:solidFill>
                  <a:srgbClr val="cc0000"/>
                </a:solidFill>
                <a:latin typeface="Verdana"/>
              </a:rPr>
              <a:t>E</a:t>
            </a:r>
            <a:r>
              <a:rPr b="1" lang="sr-Latn-CS" sz="2800" spc="-1" strike="noStrike">
                <a:solidFill>
                  <a:srgbClr val="cc0000"/>
                </a:solidFill>
                <a:latin typeface="Verdana"/>
              </a:rPr>
              <a:t>C</a:t>
            </a:r>
            <a:r>
              <a:rPr b="1" lang="sr-CS" sz="2800" spc="-1" strike="noStrike" baseline="-25000">
                <a:solidFill>
                  <a:srgbClr val="cc0000"/>
                </a:solidFill>
                <a:latin typeface="Verdana"/>
              </a:rPr>
              <a:t>50</a:t>
            </a:r>
            <a:r>
              <a:rPr b="1" lang="sr-CS" sz="2800" spc="-1" strike="noStrike">
                <a:solidFill>
                  <a:srgbClr val="00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F231-048D-4837-AA91-961824B0696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E6D7-BD2B-4DAD-A75F-C40B5C68EC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он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трација лека  директно утиче на фармаколошки одговор , али треба водити р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уна и о безбедној примени ле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а повећањем концентрације расту и ризици који се јављају због токсичних ефеката ле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Терапијска ширина лека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– концентрација лека  са којом се за лечење одређене болести постиже жељени ефекат уз прихватљиве ризи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4568-337F-4665-AEBE-5CF750A2DFC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3EFF-D67A-40F4-9623-119BAA9EE8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Узајамн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ез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концентрације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теофилин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лазми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фармаколошког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ефект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теофилин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лућн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функциј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ФЕВ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Forced</a:t>
            </a:r>
            <a:r>
              <a:rPr b="0" i="1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i="1" lang="sr-Latn-C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pi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at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ор</a:t>
            </a:r>
            <a:r>
              <a:rPr b="0" i="1" lang="sr-Latn-CS" sz="22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lum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i="1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сматичних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ацијенат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овећањем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конц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расте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интензитет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дговор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остоје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елике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интериндивидуалне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разлике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испољавању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дговор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BFD3-88D5-444D-9B6D-FBA71A04DDD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6BEF-463B-489C-A15F-763701FA9B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Ист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имењен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оз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може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од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различитих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убјекат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стигне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различиту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онцентрацију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лазм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B02F-5C5B-49A7-A945-5D9B2123F86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604F-91C8-4D6E-9BF4-68E6471A27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линичка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фармакокинетика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вс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.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фармакокинети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АДМЕ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инцип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онцепт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ширине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терапијске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онцентрације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ле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Фактори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оји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тичу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расподелу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лека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дговор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рганизма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ле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Израчунавање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фармакокинетичких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араметара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телесних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течности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фармакокинетски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модели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2D69-B240-4AA3-A4BA-8EBD843FC73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D90B-6C62-4D2B-9034-46F3BA3895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Многи фармакокинетички фактори утичу на концентрацију лека у плазми, односно на одговор појединца на лек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Индивидуалне карактеристике пацијента (генетика) које утичу на метаболизам и елиминацију леко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Варијације у апсорпциј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Физиолошко стање (узраст..) или болест утичу на промене у апсорпцији, дистрибуцији или елиминациј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Интеракције леко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F78F-F2F0-4EB1-BD5C-82B1C44F8D6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5DA8-0538-4467-AE0D-E45C59A424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За већину лекова интериндивидуалне разлике утичу на разлике у постизању концентрације лека у плазм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Терапијски мониторинг-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праћење концентрације лека у плазми има вредност када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остоји добра корелација између фармаколошког одговора и плазма концентрац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ада лек има узак терапијски индекс (терапијска конц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ј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е блиска токсичној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ада се фармаколошки ефек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 не може другим средствима измерити (нпр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рвни притисак и антихипертензиви .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ада су интериндивидуалне разлике концентрације лека у плазми последица величине дозе лек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AFCE-D8CD-40F4-A42E-BF28BC4AE00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72CC-8B6E-49FF-8E39-46DDC891FD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0" y="3581280"/>
            <a:ext cx="3962520" cy="838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СУБОПТИМАЛНИ</a:t>
            </a: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ЕФЕКА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572000" y="2057400"/>
            <a:ext cx="3962520" cy="838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ОКСИЧНОС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746600" y="334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72000" y="2895480"/>
            <a:ext cx="396252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ПТИМАЛНИ</a:t>
            </a: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ЕФЕКА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8"/>
          <p:cNvSpPr/>
          <p:nvPr/>
        </p:nvSpPr>
        <p:spPr>
          <a:xfrm rot="16200000">
            <a:off x="914400" y="3352320"/>
            <a:ext cx="3886200" cy="381240"/>
          </a:xfrm>
          <a:prstGeom prst="rect">
            <a:avLst/>
          </a:prstGeom>
          <a:solidFill>
            <a:srgbClr val="a3b2c1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раст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нцентрације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ека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лаз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Line 9"/>
          <p:cNvSpPr/>
          <p:nvPr/>
        </p:nvSpPr>
        <p:spPr>
          <a:xfrm flipV="1">
            <a:off x="3657600" y="1599840"/>
            <a:ext cx="0" cy="3886200"/>
          </a:xfrm>
          <a:prstGeom prst="line">
            <a:avLst/>
          </a:prstGeom>
          <a:ln w="1144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8880-C97E-42E9-BB0C-1879524B2F7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277D-6E61-4C0F-B94D-F34B50EF3F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Начини</a:t>
            </a:r>
            <a:r>
              <a:rPr b="0" lang="sr-Latn-C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примене</a:t>
            </a:r>
            <a:r>
              <a:rPr b="0" lang="sr-Latn-CS" sz="3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апликације</a:t>
            </a:r>
            <a:r>
              <a:rPr b="0" lang="sr-Latn-CS" sz="3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леко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Ентералн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ек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блингвал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ал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ерорал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ктал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арентералн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ар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изван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равенс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рамускулар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бкута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радермал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пецијал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идов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епидурално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субарахноидалн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периартикуларн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интракардијалн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интраплеуралн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За</a:t>
            </a:r>
            <a:r>
              <a:rPr b="1" lang="sr-Latn-C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сваки</a:t>
            </a:r>
            <a:r>
              <a:rPr b="1" lang="sr-Latn-C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пут</a:t>
            </a:r>
            <a:r>
              <a:rPr b="1" lang="sr-Latn-C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примене</a:t>
            </a:r>
            <a:r>
              <a:rPr b="1" lang="sr-Latn-CS" sz="20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врх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окалн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истемск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јст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епен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псорпциј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актор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њ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тич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бр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ош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ран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едност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ан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пецијалн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спект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пр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B454-4AA8-4F68-9921-CE05CBCB430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5673-22C6-430A-9FAD-8DEA1FCE66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Начини</a:t>
            </a:r>
            <a:r>
              <a:rPr b="0" lang="sr-Latn-C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примене</a:t>
            </a:r>
            <a:r>
              <a:rPr b="0" lang="sr-Latn-CS" sz="3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апликације</a:t>
            </a:r>
            <a:r>
              <a:rPr b="0" lang="sr-Latn-CS" sz="3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леко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к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лућ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халаци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ж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рансдермал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узниц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њукти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аги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осн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лузниц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ретр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еши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За</a:t>
            </a:r>
            <a:r>
              <a:rPr b="1" lang="sr-Latn-C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сваки</a:t>
            </a:r>
            <a:r>
              <a:rPr b="1" lang="sr-Latn-C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пут</a:t>
            </a:r>
            <a:r>
              <a:rPr b="1" lang="sr-Latn-C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примене</a:t>
            </a:r>
            <a:r>
              <a:rPr b="1" lang="sr-Latn-CS" sz="20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врх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окалн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истемск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јст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епен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псорпциј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актор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њ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тич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бр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ош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ран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едност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ан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пецијалн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спект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пр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A2AB-E0E7-43E4-8D6A-E5D21746F17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AC51-E286-411D-8061-97C830D333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Фармакокинетички</a:t>
            </a:r>
            <a:r>
              <a:rPr b="0" lang="sr-Latn-C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модел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Терминолог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ростор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компартман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Једнопросторн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одел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рганиз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Двопросторн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одел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централн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остор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добр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окрвљен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ериферн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остор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слаб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лош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окрвљен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ишепросторн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одел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дв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-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тр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-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улт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-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Секвестрациј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ткив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крв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ћел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др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Ткив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акумулациј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65760" indent="-3834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афинитет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специфичне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молекуле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нпр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кератин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гризеофулвин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265760" indent="-3834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специјализовани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транспортни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системи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нпр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јод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тироиде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DF69-B51A-4C60-817E-B710A0CC93E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84F6-5946-4C93-A162-85A783C8D3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Фармакокинет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2420640"/>
            <a:ext cx="80010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pharmacon (grč.) -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kinein (grč.) 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кретат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Део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фармакологиј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роучав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удбин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лек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организм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како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организам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делуј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као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тр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н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упстанц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96D6-2A04-4053-8263-B8D5CC0D390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B448-89B8-43AE-A8EE-97A888C370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Фармакологија</a:t>
            </a:r>
            <a:r>
              <a:rPr b="0" lang="sr-Latn-C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896840"/>
            <a:ext cx="8001000" cy="29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914400" y="2666880"/>
            <a:ext cx="1752480" cy="2057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Е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095880" y="2743200"/>
            <a:ext cx="1828800" cy="19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РГАНИЗАМ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2819520" y="3429000"/>
            <a:ext cx="2743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7"/>
          <p:cNvSpPr/>
          <p:nvPr/>
        </p:nvSpPr>
        <p:spPr>
          <a:xfrm flipH="1">
            <a:off x="2895120" y="3733920"/>
            <a:ext cx="26672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2971800" y="2743200"/>
            <a:ext cx="26668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ФАРМАКОДИНАМ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2971800" y="4191120"/>
            <a:ext cx="26668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ФАРМАКОКИНЕТ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380880" y="5105520"/>
            <a:ext cx="838224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ФАРМАКОКИНЕТИ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рати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удбину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лека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рганизм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F95C-EC15-4D5A-8175-104E5680A5E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E929-A437-4409-9CD2-A3EE40E153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9382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Фармакокнетик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аук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ој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бави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оучавањем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удбине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”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лек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рганизму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дносно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оучав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оцесе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сорпциј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истрибуциј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  </a:t>
            </a: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етаболиз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       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    </a:t>
            </a: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Е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скрециј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функцији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ремен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то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математичк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анализ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фармакокинетичких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оцес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34DF-9BCE-4E0B-BC12-B76D1C73557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84B3-CBC6-474D-AE12-408CE83E89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Фармакодинамика говори о односу између концентрације лека на месту деловања и резултујућег ефекта, укључујући временски ток и интензитет терапијског и нежељеног дејств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3520" y="3505320"/>
            <a:ext cx="152388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жи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зирањ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590920" y="3505320"/>
            <a:ext cx="1981080" cy="1676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нцентрациј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ек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лаз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4572000" y="3505320"/>
            <a:ext cx="1219320" cy="16761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ест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еловањ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6553080" y="3505320"/>
            <a:ext cx="1828800" cy="1676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фек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1447920" y="2895480"/>
            <a:ext cx="22860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фармакокинети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5029200" y="2895480"/>
            <a:ext cx="2514600" cy="381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фармакодинами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utoShape 10"/>
          <p:cNvSpPr/>
          <p:nvPr/>
        </p:nvSpPr>
        <p:spPr>
          <a:xfrm rot="5400000">
            <a:off x="1485720" y="4686120"/>
            <a:ext cx="1219320" cy="266688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466560 h 2666880"/>
              <a:gd name="textAreaBottom" fmla="*/ 193356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11"/>
          <p:cNvSpPr/>
          <p:nvPr/>
        </p:nvSpPr>
        <p:spPr>
          <a:xfrm rot="5400000">
            <a:off x="5752800" y="4381560"/>
            <a:ext cx="1219320" cy="297180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519840 h 2971800"/>
              <a:gd name="textAreaBottom" fmla="*/ 21546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2133720" y="4343400"/>
            <a:ext cx="38088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5943600" y="4343400"/>
            <a:ext cx="53352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C5F9-032E-4A24-987B-0D89E9741B3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C5CF-73CA-4DCB-A548-4F87E66DE3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линичку фармакокинетику је први увео Torsten Tiorell, 1920. годин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Verdana"/>
              </a:rPr>
              <a:t>Клиничка фармакокинетика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се бави применом фармакокинетских принципа ради безбедног и ефикасног лечења (примене лекова) појединачних болесни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дређивањ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ндивидуалн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рапијск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з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з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ерењ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онцентрациј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е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биолошким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чностим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(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ерум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лазм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одразумева се </a:t>
            </a:r>
            <a:r>
              <a:rPr b="1" i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"кинетичка хомогеност"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 тј. предвидљива веза између концентрације лека у плазми и концентрације лека на рецепторском мест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C097-5594-4E06-BBF9-8C22D48E8A6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C48D-5E41-4311-ABAD-9A113ACCE2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Фармакокинети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Фармакодинами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1828800"/>
            <a:ext cx="175248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описан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озни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жи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743200" y="1828800"/>
            <a:ext cx="25146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ек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есту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еловањ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6781680" y="1905120"/>
            <a:ext cx="2057400" cy="838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Ефекти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ека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1828800" y="2286000"/>
            <a:ext cx="7621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5486400" y="2286000"/>
            <a:ext cx="9144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304920" y="3429000"/>
            <a:ext cx="3504960" cy="342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мплијан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авилно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зирањ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реш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псорпциј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с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лумен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лесних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ч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нтеракциј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ек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лиминациј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цес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етаболиз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638680" y="3505320"/>
            <a:ext cx="3276720" cy="2743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атус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цепто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енетск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диспозициј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нтеракциј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леранциј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зрас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себн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пулациј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C288-356E-4C46-962C-6918F8260D3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C700-9201-4EC1-A545-52EC35B66C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7007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гово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ек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вис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нцентрац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ст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елова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ецептора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(присуства, броја..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19-09-12T21:47:41Z</dcterms:modified>
  <cp:revision>19</cp:revision>
  <dc:subject/>
  <dc:title>Slide 1</dc:title>
</cp:coreProperties>
</file>